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D0E-C1D0-4A90-A8A8-D7B7A036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AC5-DE06-4CB5-A0D9-14860787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A44-A2BD-458C-9FCB-EDEF835A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0FC-17FF-40AA-BD9F-53FC5386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AE1-0DF8-4032-8CD6-3F1A546A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A7C-AA97-4D69-948D-1B2F3BCF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368-0B88-4E1A-A3C8-889C3772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4D2-A1E8-4C89-9543-F8D4FB97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041-F6B2-4F1B-84E2-D039784D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B9A-7D86-4142-A105-08FC120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1C8-16ED-467E-94EA-604CC65F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13C-279E-4537-8539-FBF43D6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6C00-B216-45B5-90A2-A8F581F9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(Deoxyribonucleic Aci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Chargaff’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9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Aden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air with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y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3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Guan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pair with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t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mounts in a given DNA molecule will be </a:t>
            </a:r>
            <a:r>
              <a:rPr b="1" lang="en-US" sz="2800" spc="-1" strike="noStrike">
                <a:solidFill>
                  <a:srgbClr val="316501"/>
                </a:solidFill>
                <a:latin typeface="Arial"/>
              </a:rPr>
              <a:t>about the 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205" name="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05520" y="55785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297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244520" y="4944960"/>
            <a:ext cx="3097440" cy="1278000"/>
            <a:chOff x="1244520" y="4944960"/>
            <a:chExt cx="3097440" cy="1278000"/>
          </a:xfrm>
        </p:grpSpPr>
        <p:sp>
          <p:nvSpPr>
            <p:cNvPr id="214" name=""/>
            <p:cNvSpPr/>
            <p:nvPr/>
          </p:nvSpPr>
          <p:spPr>
            <a:xfrm>
              <a:off x="2768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4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0099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5892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30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09840" y="55785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7760" y="55785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0824200">
              <a:off x="342900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479840" y="3048120"/>
            <a:ext cx="93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68120"/>
          <a:ext cx="8458200" cy="6343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120"/>
                    <a:ext cx="845820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BASE-PAI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10520" y="1781280"/>
            <a:ext cx="5669640" cy="2562120"/>
            <a:chOff x="1010520" y="1781280"/>
            <a:chExt cx="5669640" cy="2562120"/>
          </a:xfrm>
        </p:grpSpPr>
        <p:sp>
          <p:nvSpPr>
            <p:cNvPr id="227" name=""/>
            <p:cNvSpPr/>
            <p:nvPr/>
          </p:nvSpPr>
          <p:spPr>
            <a:xfrm>
              <a:off x="4902120" y="284472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3333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63840" y="284472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48680" y="32925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33720" y="32925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35440" y="28195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2640" y="3581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35440" y="434340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29000" y="2043000"/>
              <a:ext cx="141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-b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35000" y="2527200"/>
              <a:ext cx="1018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8044400">
              <a:off x="1281960" y="2070720"/>
              <a:ext cx="1527120" cy="150048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463840" y="4209840"/>
            <a:ext cx="5732280" cy="2577240"/>
            <a:chOff x="2463840" y="4209840"/>
            <a:chExt cx="5732280" cy="2577240"/>
          </a:xfrm>
        </p:grpSpPr>
        <p:sp>
          <p:nvSpPr>
            <p:cNvPr id="238" name=""/>
            <p:cNvSpPr/>
            <p:nvPr/>
          </p:nvSpPr>
          <p:spPr>
            <a:xfrm rot="120000">
              <a:off x="4978440" y="528300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63840" y="528336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0099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10040" y="573084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4280" y="5686560"/>
              <a:ext cx="47556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92640" y="601992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35440" y="525780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3411600">
              <a:off x="6386760" y="4509000"/>
              <a:ext cx="152712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enetic Divers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fferent arrangements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UCLEOTIDE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n a nucleic acid (DNA) provides the key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VERSITY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mong living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978000" cy="3089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3921120" cy="2514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715000" y="43434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Code of Lif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“code” of the chromosome is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 ORDER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that bases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A T C G T A T G C G 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911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51051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is wrapped tightly around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Arial"/>
              </a:rPr>
              <a:t>hist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coiled tightly to form chromoso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4876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029200" y="380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e p. 2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N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pl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NA must be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he DNA molecule produces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 IDENTICAL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new complementary strands following the rules of base pairing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A-T, G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05520" y="4710240"/>
            <a:ext cx="4038480" cy="2147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7200" y="4724280"/>
            <a:ext cx="4572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ach strand of the original DNA serves as a template for the new strand   </a:t>
            </a:r>
            <a:r>
              <a:rPr b="1" i="1" lang="en-US" sz="2800" spc="-1" strike="noStrike">
                <a:solidFill>
                  <a:srgbClr val="cc6600"/>
                </a:solidFill>
                <a:latin typeface="Arial"/>
              </a:rPr>
              <a:t>See p. 2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N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23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34db"/>
                </a:solidFill>
                <a:latin typeface="Arial"/>
              </a:rPr>
              <a:t>Semiconservative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279f"/>
                </a:solidFill>
                <a:latin typeface="Arial"/>
              </a:rPr>
              <a:t>Watson and Crick showed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two strands of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ental molecule</a:t>
            </a:r>
            <a:r>
              <a:rPr b="1" lang="en-US" sz="2200" spc="-1" strike="noStrike">
                <a:solidFill>
                  <a:srgbClr val="00968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parate, and each functions as 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la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or synthesis of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complementary str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01720" y="5159520"/>
            <a:ext cx="2158920" cy="707760"/>
            <a:chOff x="1701720" y="5159520"/>
            <a:chExt cx="2158920" cy="707760"/>
          </a:xfrm>
        </p:grpSpPr>
        <p:sp>
          <p:nvSpPr>
            <p:cNvPr id="264" name=""/>
            <p:cNvSpPr/>
            <p:nvPr/>
          </p:nvSpPr>
          <p:spPr>
            <a:xfrm>
              <a:off x="1701720" y="563868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01720" y="586728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39160" y="5159520"/>
              <a:ext cx="1639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124160" y="4778280"/>
            <a:ext cx="3318840" cy="1622520"/>
            <a:chOff x="4124160" y="4778280"/>
            <a:chExt cx="3318840" cy="1622520"/>
          </a:xfrm>
        </p:grpSpPr>
        <p:sp>
          <p:nvSpPr>
            <p:cNvPr id="268" name=""/>
            <p:cNvSpPr/>
            <p:nvPr/>
          </p:nvSpPr>
          <p:spPr>
            <a:xfrm flipV="1">
              <a:off x="4127400" y="53974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24160" y="58910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83360" y="51055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83360" y="54100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83360" y="64008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83360" y="60958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00960" y="4778280"/>
              <a:ext cx="174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1320" y="5388120"/>
              <a:ext cx="120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Arial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4703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.  Why is replication necess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.  When does replication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.  Describe how replication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 the complementary rul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eate the complementary strand: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485680" y="3581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581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8114040" y="36216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7961400" y="430704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5579640" y="2887200"/>
            <a:ext cx="529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3240" y="15840"/>
            <a:ext cx="33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Replication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  Why is replication necess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 both new cells will have the correct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.  When does replication occ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uring interphase (S pha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.  Describe how replication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zymes unzip DNA and complementary nucleotides join each origi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.  Use the complementary rul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eate the complementary strand: </a:t>
            </a:r>
            <a:r>
              <a:rPr b="1" lang="en-US" sz="7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85680" y="3581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3581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8114040" y="36216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7961400" y="430704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5579640" y="2584080"/>
            <a:ext cx="529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-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240" y="15840"/>
            <a:ext cx="33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Replication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1961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Watson &amp; Crick propos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NA controlled cell function by serving as a template f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ROTEI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 Nucleotides = a triplet 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which code for a specific AMINO AC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See p.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MINO ACID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are the building blocks of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N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NA can “unzip” itself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N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nucleotides match up to the DNA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oth DNA &amp; RNA are formed fro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UCLEOTIDE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 are called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UCLE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3200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ee p.3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521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NA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cell uses information from “messenger” RNA to produc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5105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124080"/>
            <a:ext cx="42670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ee p.304-3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be0e3"/>
                </a:solidFill>
                <a:latin typeface="Arial"/>
              </a:rPr>
              <a:t>We will discuss details of this on a later 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cription/Translation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ranscription necessa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ranscrip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ranslation necessa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rans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main differences between DNA and R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the chart on page 303, identify the amino acids coded for by these cod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GGCAGU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Why is transcription necessa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cription makes messenger RNA (MRNA) to carry the code for proteins out of the nucleus to the ribosomes in the cytopla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Describe tran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NA polymerase binds to DNA, separates the strands, then uses one strand as a template to assemble M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y is translation necess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lation assures that the right amino acids are joined together by peptides to form the correct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Describe translation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cell uses information from MRNA to produce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What are the main differences between DNA and 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NA has deoxyribose, RNA has ribose; DNA has 2 strands, RNA has one strand; DNA has thymine, RNA has uraci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hart on page 303, identify the amino acids coded for by these codons: UGGCAGU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ptophan-glutamine-cyst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AZING DNA FAC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DNA from a single human cell extends in a single thread for almost 2 meters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contains information equal to some 600,000 printed pages of 500 words each!!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(a library of about 1,000 boo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68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LET’S REVIEW DNA…</a:t>
            </a:r>
            <a:br>
              <a:rPr sz="48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M p.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ist the conclusions Griffith &amp; Avery, Hershey &amp; Chase drew from their experi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ize the relationship between genes &amp;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scribe the overall structure of the DNA molec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are the 4 kinds of b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enetic material of cel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S – units of genetic material tha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DES FOR A SPECIFIC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le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NA is made up of repeating molecules calle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NA 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50" name="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57" name="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62" name="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0099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0099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65"/>
                </a:solidFill>
                <a:latin typeface="Arial"/>
              </a:rPr>
              <a:t>A HISTORY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very of th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NA double hel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rederick Griff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covers that a factor in diseased bacteria can transform harmless bacteria into deadly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osalind Frankl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-ray photo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atson and Cri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crib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molecule from Franklin’s X-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40796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15200" y="2362320"/>
            <a:ext cx="14907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77120" y="4724280"/>
            <a:ext cx="2438280" cy="1922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8128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p. 292-2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atson &amp; Crick propos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447920"/>
            <a:ext cx="8001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NA had specific pairing between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itrogen b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ENIN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YTOSIN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NA was made of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long stands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ucleotides arranged in a specific way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Complementary Ru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NA Double 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84" name="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/>
              <a:ahLst/>
              <a:rect l="l" t="t" r="r" b="b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/>
              <a:ahLst/>
              <a:rect l="l" t="t" r="r" b="b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86400" y="1701720"/>
            <a:ext cx="1371600" cy="4826160"/>
            <a:chOff x="5486400" y="1701720"/>
            <a:chExt cx="1371600" cy="4826160"/>
          </a:xfrm>
        </p:grpSpPr>
        <p:sp>
          <p:nvSpPr>
            <p:cNvPr id="87" name=""/>
            <p:cNvSpPr/>
            <p:nvPr/>
          </p:nvSpPr>
          <p:spPr>
            <a:xfrm>
              <a:off x="5486400" y="1701720"/>
              <a:ext cx="0" cy="482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8000" y="1701720"/>
              <a:ext cx="0" cy="482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11960" y="198108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11960" y="25909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11960" y="380988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11960" y="320040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1960" y="44197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11960" y="6248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11960" y="563868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11960" y="502920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197760" y="1882800"/>
            <a:ext cx="2873160" cy="1343160"/>
            <a:chOff x="6197760" y="1882800"/>
            <a:chExt cx="2873160" cy="1343160"/>
          </a:xfrm>
        </p:grpSpPr>
        <p:sp>
          <p:nvSpPr>
            <p:cNvPr id="98" name=""/>
            <p:cNvSpPr/>
            <p:nvPr/>
          </p:nvSpPr>
          <p:spPr>
            <a:xfrm flipV="1">
              <a:off x="6197760" y="2413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95880" y="2568600"/>
              <a:ext cx="2074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8840" y="1882800"/>
              <a:ext cx="2152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883560" y="4168800"/>
            <a:ext cx="2172960" cy="1628280"/>
            <a:chOff x="6883560" y="4168800"/>
            <a:chExt cx="2172960" cy="1628280"/>
          </a:xfrm>
        </p:grpSpPr>
        <p:sp>
          <p:nvSpPr>
            <p:cNvPr id="102" name=""/>
            <p:cNvSpPr/>
            <p:nvPr/>
          </p:nvSpPr>
          <p:spPr>
            <a:xfrm flipV="1">
              <a:off x="6883560" y="44704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71120" y="4168800"/>
              <a:ext cx="197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9688"/>
                  </a:solidFill>
                  <a:latin typeface="Arial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72200" y="5159520"/>
              <a:ext cx="1984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NA Double 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109" name="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143" name="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177" name="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186" name="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Nitrogenou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234db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YRIMID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969160" y="4826160"/>
            <a:ext cx="1777680" cy="1473120"/>
            <a:chOff x="5969160" y="4826160"/>
            <a:chExt cx="1777680" cy="1473120"/>
          </a:xfrm>
        </p:grpSpPr>
        <p:sp>
          <p:nvSpPr>
            <p:cNvPr id="196" name=""/>
            <p:cNvSpPr/>
            <p:nvPr/>
          </p:nvSpPr>
          <p:spPr>
            <a:xfrm>
              <a:off x="5969160" y="4826160"/>
              <a:ext cx="1777680" cy="1473120"/>
            </a:xfrm>
            <a:prstGeom prst="hexagon">
              <a:avLst>
                <a:gd name="adj" fmla="val 30163"/>
                <a:gd name="vf" fmla="val 115470"/>
              </a:avLst>
            </a:prstGeom>
            <a:solidFill>
              <a:srgbClr val="3333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34480" y="5273640"/>
              <a:ext cx="1207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334840" y="1763280"/>
            <a:ext cx="3250440" cy="2554560"/>
            <a:chOff x="5334840" y="1763280"/>
            <a:chExt cx="3250440" cy="2554560"/>
          </a:xfrm>
        </p:grpSpPr>
        <p:sp>
          <p:nvSpPr>
            <p:cNvPr id="199" name=""/>
            <p:cNvSpPr/>
            <p:nvPr/>
          </p:nvSpPr>
          <p:spPr>
            <a:xfrm>
              <a:off x="6807240" y="2844720"/>
              <a:ext cx="1778040" cy="1473120"/>
            </a:xfrm>
            <a:prstGeom prst="hexagon">
              <a:avLst>
                <a:gd name="adj" fmla="val 30169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2200" y="3292560"/>
              <a:ext cx="1266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or 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44400">
              <a:off x="5606280" y="2052720"/>
              <a:ext cx="1527480" cy="150048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8:05:42Z</dcterms:created>
  <dc:creator>xpsetup</dc:creator>
  <dc:description/>
  <dc:language>en-US</dc:language>
  <cp:lastModifiedBy>user</cp:lastModifiedBy>
  <dcterms:modified xsi:type="dcterms:W3CDTF">2011-01-11T16:23:59Z</dcterms:modified>
  <cp:revision>18</cp:revision>
  <dc:subject/>
  <dc:title>DNA (Deoxyribonucleic Acid)</dc:title>
</cp:coreProperties>
</file>